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004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8720" y="526680"/>
            <a:ext cx="3508560" cy="26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7560"/>
            <a:ext cx="403236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004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7647-9A65-475C-B676-F38CE822A8B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E0D0-8BFB-4512-B755-01F3F90F252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871B-DD6A-433A-B058-1BE4DEC98AE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6639-1397-4D27-A84A-8B14BDB5708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48C-8BE3-4FBC-87BE-446A72F58B3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F3DE-A4DA-4663-B53B-5A7EC9BB4FF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88CE-3E58-4D6A-B86D-ADCE66D7008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BE27-A4F7-43E6-96C8-765B55F9FD5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88C5-E7F7-48D0-934F-A222DA1F15B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D061-0902-4076-B027-E0E68E7E4D3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1D30-EAE4-44E7-B3A8-B39894C7859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B567-3A6F-4750-A0E4-D7860B9E843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D7B-FC3C-48B0-9FE8-4AA10ACCE7C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335A-AB48-49AD-933C-4DA57246426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B87B-6081-4F4C-BCDF-CB4B3D82C85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AFB-5212-4735-A632-549E1DD2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83A-BF5E-48A4-8878-7F5C4523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443-2E07-440D-BF49-FB8CC7B7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A9D-021F-4E43-A929-CE13796E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552E-6522-4201-9085-49219760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6BC-C966-41A9-94CE-286F5B0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E01-812F-4D8A-9A09-2FB69B19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2805-2373-4ED1-AE4E-1EA27711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D0A7-F60C-4FF3-97F0-DBE88FD1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E90-1EE2-4887-B9BB-7AC484EE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E43-0863-4192-9EDC-B090A2E7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743-85C1-413F-B541-1A70CB36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B935-6129-4312-8951-6B5FD2850C1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eguay\Bureau\art-nouveau\images\Low_rez\Générique.jpg"/>
          <p:cNvPicPr/>
          <p:nvPr/>
        </p:nvPicPr>
        <p:blipFill>
          <a:blip r:embed="rId1"/>
          <a:stretch/>
        </p:blipFill>
        <p:spPr>
          <a:xfrm>
            <a:off x="1116000" y="260280"/>
            <a:ext cx="6502320" cy="650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SDCCS et son engagement envers les nouveaux arriv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:\Documents and Settings\eguay\Bureau\base.jpg"/>
          <p:cNvPicPr/>
          <p:nvPr/>
        </p:nvPicPr>
        <p:blipFill>
          <a:blip r:embed="rId2"/>
          <a:stretch/>
        </p:blipFill>
        <p:spPr>
          <a:xfrm>
            <a:off x="0" y="5762520"/>
            <a:ext cx="91630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TÉÉ (Travailleurs en établissement dans les éco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2 sortes de modèles: En partenariat avec les organismes communautaires ou administrateur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Administrateur direct dans la région de Peel-Halton avec 2 TÉ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itia Buaba Z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ff"/>
                </a:solidFill>
                <a:uFillTx/>
                <a:latin typeface="Arial"/>
              </a:rPr>
              <a:t>vzam@csdccs.edu.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800" spc="-1" strike="noStrike">
                <a:solidFill>
                  <a:srgbClr val="92d050"/>
                </a:solidFill>
                <a:latin typeface="Arial"/>
              </a:rPr>
              <a:t>731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élika Fon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ff"/>
                </a:solidFill>
                <a:uFillTx/>
                <a:latin typeface="Arial"/>
              </a:rPr>
              <a:t>mfontaine@csdccs.edu.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800" spc="-1" strike="noStrike">
                <a:solidFill>
                  <a:srgbClr val="92d050"/>
                </a:solidFill>
                <a:latin typeface="Arial"/>
              </a:rPr>
              <a:t>731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ex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gramme TÉÉ administré par les parte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Toronto: Le Centre Francophon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urham: Le Conseil des organismes francophones de la région de Durham (COF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amilton- Niagara: Le Centre de santé communautaire Hamilton-Nia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e CSDCCS souhaite voir le programme de TÉÉ dans toutes ses écoles sur tout le territoire qu’il de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emples de partenariats communautaires avec entente for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EP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entre Francophon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a Passerelle I.D.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DÉÉ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llège Boré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NAFRIC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F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SC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OFIF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E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e CSDCCS vise le bon accueil et la bonne intégration des nouveaux arrivants à tous les nivea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a réussite scolaire de l’enfant dépend de l’accueil et de l’accompagnement de toute la fam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En adoptant une culture interne ouverte à ces valeurs et en favorisant une collaboration étroite de tous les intervenants, le CSDCCS offre à ses élèves nouveaux arrivants de meilleures chances de réussir leur vie au Ca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ffffff"/>
                </a:solidFill>
                <a:latin typeface="Arial"/>
              </a:rPr>
              <a:t>MERC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e Conseil scolaire de district catholique Centre-Sud (CSDC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e CSDCCS accueille plus de 14 500 élèves au sein de 42 écoles élémentaires et 9 écoles secondaires sur un territoire s’étendant de la péninsule du Niagara à Peterborough et du lac Ontario (Toronto) à la baie Georgien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a mission du Conseil est d’offrir à l’élève une éducation de qualité dans un milieu de vie catholique et francophone où le respect de la personne, le sens d’appartenance à la collectivité franco-ontarienne, la promotion de l’excellence et l’équité sont des valeurs visibles et essentielles à son épanouissement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e siège social se trouve à Toro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ITIATIVES DU CSD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mpte tenu de la tendance de l’immigration et suite à un nombre très élevé de nouveaux arrivants dans certaines écoles, le CSDCCS a identifié l’intégration des nouveaux arrivants comme étant une des priorités de son plan stratégique 2011-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Modèle d’intervention</a:t>
            </a:r>
            <a:br>
              <a:rPr sz="2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inclut des stratégies provenant de </a:t>
            </a:r>
            <a:br>
              <a:rPr sz="20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l’interne et de l’externe du CSDC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-168120" y="1341360"/>
            <a:ext cx="1035684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NA (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Programme d’appui aux nouveaux arrivants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n programme qui facilite l’intégration scolaire et socio-culturelle des élèves nouveaux arrivants et permet de les familiariser avec leur nouveau milieu scolaire. Un accompagnement au niveau académ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oujours à l’affût de nouvelles initiatives et res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LF (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Actualisation linguistique du français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iaison communaut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Partenariats communautaires et projets communautaires avec les éc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3 agents de liaison communautaire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Régions de Toronto-Durh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Adolphine Mukama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"/>
              </a:rPr>
              <a:t>amukamanzi@csdccs.edu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400" spc="-1" strike="noStrike">
                <a:solidFill>
                  <a:srgbClr val="92d050"/>
                </a:solidFill>
                <a:latin typeface="Arial"/>
              </a:rPr>
              <a:t>731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Régions de Peel-Halton, Kitchener-Waterlo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Marie-Pierre Dao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"/>
              </a:rPr>
              <a:t>mdaoust@csdccs.edu.on.ca</a:t>
            </a: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400" spc="-1" strike="noStrike">
                <a:solidFill>
                  <a:srgbClr val="92d050"/>
                </a:solidFill>
                <a:latin typeface="Arial"/>
              </a:rPr>
              <a:t>731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3 agents de liaison communaut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égions de Hamilton-Nia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ranklin Leuk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ffffff"/>
                </a:solidFill>
                <a:uFillTx/>
                <a:latin typeface="Arial"/>
              </a:rPr>
              <a:t>fleukam@csdccs.edu.on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3200" spc="-1" strike="noStrike">
                <a:solidFill>
                  <a:srgbClr val="92d050"/>
                </a:solidFill>
                <a:latin typeface="Arial"/>
              </a:rPr>
              <a:t>71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ojet P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Financé par le ministère de l’Éducation de l’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ifférentes activités en lien avec l’intégration des nouveaux arriv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ession d’information aux parents et leaders communautaires sur les études secondaires et post secondaires à l’école Mgr-de-Charb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jet familles en mouvement à Hami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ojet P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mp d’été à Toronto avec La Passerelle I.D.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mp d’été à Hamilton avec CANAFRIC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ortie des parents à l’îl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8:29:08Z</dcterms:created>
  <dc:creator>CSDCCS</dc:creator>
  <dc:description/>
  <dc:language>en-US</dc:language>
  <cp:lastModifiedBy>TPL</cp:lastModifiedBy>
  <cp:lastPrinted>2013-05-29T17:37:28Z</cp:lastPrinted>
  <dcterms:modified xsi:type="dcterms:W3CDTF">2013-05-26T05:08:10Z</dcterms:modified>
  <cp:revision>90</cp:revision>
  <dc:subject/>
  <dc:title>Diapositive 1</dc:title>
</cp:coreProperties>
</file>